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3CE-9FA2-4AB1-B02A-594D15C9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8BE-FD5B-43A4-B8F9-E3F7C918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9E1-BA30-4789-8E36-ED8CDC96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563-4131-4A31-B9D1-E7095E08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38F-20D6-4A4B-9E8D-814ABBF7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C7A-966C-41CE-A03C-2EAF23DC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571-87A2-46E8-B6DE-3364AD50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4DD-523C-4AB5-B887-F6ED4B5C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9A6-6332-4F7D-B660-716BE788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CE5-EE80-4CCB-B07E-86969BA4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B97-6A2A-4E96-B743-3EE5192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9D1-1171-4C81-8C02-DEBDA5BF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BA9F-A408-4163-AFCD-B123FAE05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263600"/>
            <a:ext cx="78487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2:12:44Z</dcterms:created>
  <dc:creator>Steve Devine</dc:creator>
  <dc:description/>
  <dc:language>en-US</dc:language>
  <cp:lastModifiedBy>Springer-SBM</cp:lastModifiedBy>
  <dcterms:modified xsi:type="dcterms:W3CDTF">2005-12-27T15:14:15Z</dcterms:modified>
  <cp:revision>9</cp:revision>
  <dc:subject/>
  <dc:title>PowerPoint Presentation</dc:title>
</cp:coreProperties>
</file>